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062DA-0E61-47BD-8880-7FBB6B8E0F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3B0-6F4B-4074-B3B5-ABB8E15D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20D-ECB1-4712-95F4-34B50A5B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FD8-9B34-481A-B176-61B1FD79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5B5-E7F3-4874-ADC6-13BFB435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C5C9-B99E-4323-BE5B-A33C4C8C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63D7-A203-476F-A9EF-AEDA819A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4EC5-D653-422B-B377-FD422EDF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5068-FAC6-42B2-A35D-E587E694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D1CB-FD29-44F8-9857-A080B29F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F44A-6DF0-4216-80BC-48B42380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8DDF-EBC1-473F-9410-725056AB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15A-8C5C-461E-B04C-85F1B0E4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9D73-8F4D-4E4C-81A6-18604013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C1BF-E361-4B64-B663-7D25D65A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D2A8-C07F-41E1-932B-FD5B793F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786C-4C75-4FD1-AED7-873A0C55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D682-FD31-4C7C-991A-A6E3D259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6F4-A686-41E5-9EC5-949F0759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2BF-6FF4-40DE-930A-662D856C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D3E-A791-4134-A4EE-7FD49E68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6F4-2ADC-457F-B50C-50F7E742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295-7D56-4395-AC86-329B5637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0452-B9B9-4A3C-9DED-99FD2B88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65B-2096-4D2E-A293-A39CC470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D6668-C0F8-4E7A-B6CB-0037D931290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737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8F549-28F7-4984-B172-29736D72558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us of Embedded Linux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ux Symposiu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e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 Bird - CELF A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ursday Tal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ynamic Deb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lined in 2.6.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 u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Use prdebug() instead of printk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urn on CONFIG_DYNAMIC_DEBU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t debugfs control file to see list of debug 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cho &lt;expr&gt; into control file to turn on/off debug 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xamine kernel log buf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ursday Talk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uto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ice automated test framework from Goo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eb control interf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erver to control jo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lients on targets to perform jo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otest client is in pyt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mmunication with client is via SS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andles failures, logging, reporting, et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 BO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ing forward to this tomor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serv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ttendance is down (~3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mportant community members still attend (maybe fewer than previous yea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ristoph Hellw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on M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ames Bottoml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m Ri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ssions are g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 of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s s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tions about ev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of Co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ew Venue in Montre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treal is a “big city” – busier that Otta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venue is nice (not a dunge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uesday - Tracing mini-Summ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nathan Corbet Key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IN keynote by Keith Berg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ing Mini-summi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senta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lementing an LTTng trace viewer in Eclipse – Francois Choin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ing user-space tracepointing to GDB – Marc Khouz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port on Ftrace – Frederick Wiesbeck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ystemTap – Frank Eig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story and status of Linux tracing – Christoph Hellw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nel: Requirements for Linux Trac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st of the above, and 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ing Issues Rai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ed to unify kernel infrastructure for tracepoint definition (and clock sources and ring buffer implementations) between LTTng and Ft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ssues with tracers in embe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ock source are often cru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ny systems don’t handle host-target well (if at a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bedded platform support lags X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mory/Performance/Storage 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tion platforms have limited I/O channels to extract trac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Jonathan Corbet Key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us of Linux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 slowing down, despite prediction of Andrew Mor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ast year - 54000 change se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us of lots of individual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S - BTRFS, SquashFS, NIL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SD’s soon capable of 100K ops/seco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tworking – mostly done but big iptables churn co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T – maybe last bits will get mer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urity – TOMOYO, Integrity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dnesday Tal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grammatic kernel crash dump analysis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edora B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Streamer on TI OMAP35x c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ndboxer – lightweight application isolation for M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bined tracing of kernel and user-space with LTT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tion Duration tracing with Ftrace (by 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ursday Key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eping Open Source Ope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eith Bergelt of Open Invention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ery interesting talk about fighting patent trol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re are some well-known tro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icrosoft starting to get aggress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mTom lawsu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IN helped lessen the da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ursday Keynote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IN has several strategies to defend open 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-to-patent = system to present prior art to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ensive publications = codify prior art before patents are gr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tent portfolio, including active paten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mportant 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 is “prowling” Japan for more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your company calls OIN before doing any deals with 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bergetl@openinventionnetwork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-347-721-8511 (24 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09-07-17T00:02:20Z</dcterms:modified>
  <cp:revision>18</cp:revision>
  <dc:subject/>
  <dc:title>スライド 1</dc:title>
</cp:coreProperties>
</file>